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32C1D-6093-484C-9B4E-20450D15F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9CC0D-A7B7-40EC-BFFA-59828FE75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E7D9-F4B9-41EB-ADFA-274D32C4B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AA420-DF06-4971-ACEB-0741B1C7A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24F3C-E452-47AC-9004-1018E94C1D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7A96E-55CC-4EA0-8F8D-25F086067F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F2E33-9E72-4AF7-BDD5-563C687070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E7B38-C052-44A8-A70B-5C9A30411E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B253A-F81B-4819-A2EB-5D1D445732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9966A-C4C8-49F0-AEE4-2775D493A2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E05E3-13AE-4590-B7BC-01A1144079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E0217-0FEC-408D-8A04-AAC03AE2D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57760-AAE9-42BB-B625-2EDF3B9B9E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65E52-5851-42E6-8A6C-DEAC6ED72E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5B11D-1957-49F7-87F8-8EAB32D04B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572C1-01FE-4127-8F7B-799A0C5356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CB0DD-4C5E-425B-935C-D379D0F356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4F93E-2927-4D5B-B274-B73967187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CB442-619F-44B6-A12A-39DF5AD7B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C8F7-6618-4D97-B7E1-6E612B92A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C78E-3E78-4BCC-AA0F-AE95AD041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5600F-7F58-47A1-8EBC-0FD48B284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47047-225C-4F60-A629-D30BA50B6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79002-F476-407B-B6F9-A9304C041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4D27984-DAFF-423F-8A81-410DFBDF2AE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6621CED-5937-4D57-866D-83752BC1982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A13D60D-1E8C-473D-8C88-7661D3BEF7F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B8047A6-685E-4BC6-A295-A8D068629437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possible to sample but 80% response rate and gender matched siblings wil reduce sample past 120 needed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-help.com/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76080" indent="-2599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4-10-13T11:30:44Z</dcterms:modified>
  <cp:revision>228</cp:revision>
  <dc:subject/>
  <dc:title>8: SAMPLE SIZE DETERMINATION</dc:title>
</cp:coreProperties>
</file>